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43A97-D3E3-42CA-A891-7D4672AAB9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77C9FD53-C537-4F86-8EB9-30FF487D26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42D199E1-422C-4962-87B3-5784272FE2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92315048-F8AC-40A7-A841-8B7F7EDD0A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C2674A-DEB7-4E55-A131-D6C339917E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4B7F78-23A8-4AE2-89B6-40BB6E52AD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7887A80E-622D-4890-939C-0EBA09751F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563F8BF2-0CA3-4A8F-BFAB-A1185B70B7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1C7546A6-3663-44A9-B751-60A11F3543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AD1F9E02-6353-44FA-9879-22AB28C467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C6B1FE0D-A01C-4BF3-9540-91C3D0BFCB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D0F52F88-8857-4EF1-9282-81F6761EC5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5280"/>
            <a:ext cx="2133720" cy="287280"/>
          </a:xfrm>
          <a:prstGeom prst="rect">
            <a:avLst/>
          </a:prstGeom>
          <a:noFill/>
          <a:ln w="0">
            <a:noFill/>
          </a:ln>
        </p:spPr>
        <p:txBody>
          <a:bodyPr lIns="45720" rIns="457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500" spc="-1" strike="noStrike">
                <a:solidFill>
                  <a:srgbClr val="000000"/>
                </a:solidFill>
                <a:latin typeface="Arial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5E94-C7BA-484E-ADB5-F54CA3A80987}" type="slidenum">
              <a:rPr b="0" lang="en-US" sz="3500" spc="-1" strike="noStrike">
                <a:solidFill>
                  <a:srgbClr val="000000"/>
                </a:solidFill>
                <a:latin typeface="Arial Bold"/>
              </a:rPr>
              <a:t>&lt;number&gt;</a:t>
            </a:fld>
            <a:endParaRPr b="0" lang="en-US" sz="3500" spc="-1" strike="noStrike">
              <a:solidFill>
                <a:srgbClr val="000000"/>
              </a:solidFill>
              <a:latin typeface="Arial Bold"/>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
          <p:cNvSpPr/>
          <p:nvPr/>
        </p:nvSpPr>
        <p:spPr>
          <a:xfrm>
            <a:off x="25560" y="2041560"/>
            <a:ext cx="6681600" cy="24271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ff"/>
                </a:solidFill>
                <a:latin typeface="Arial Black"/>
                <a:ea typeface="Arial Black"/>
              </a:rPr>
              <a:t>AFRICA </a:t>
            </a:r>
            <a:endParaRPr b="0" lang="en-US" sz="6500" spc="-1" strike="noStrike">
              <a:solidFill>
                <a:srgbClr val="000000"/>
              </a:solidFill>
              <a:latin typeface="Arial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ff"/>
                </a:solidFill>
                <a:latin typeface="Arial Black"/>
                <a:ea typeface="Arial Black"/>
              </a:rPr>
              <a:t>ATTRACTIONS</a:t>
            </a:r>
            <a:endParaRPr b="0" lang="en-US" sz="6500" spc="-1" strike="noStrike">
              <a:solidFill>
                <a:srgbClr val="000000"/>
              </a:solidFill>
              <a:latin typeface="Arial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057400" y="517680"/>
            <a:ext cx="2352600" cy="35064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neries, South Africa</a:t>
            </a:r>
            <a:endParaRPr b="0" lang="en-US" sz="1800" spc="-1" strike="noStrike">
              <a:solidFill>
                <a:srgbClr val="000000"/>
              </a:solidFill>
              <a:latin typeface="Arial Bold"/>
            </a:endParaRPr>
          </a:p>
        </p:txBody>
      </p:sp>
      <p:pic>
        <p:nvPicPr>
          <p:cNvPr id="57" name="wine900_1235479c.jpg" descr="wine900_1235479c"/>
          <p:cNvPicPr/>
          <p:nvPr/>
        </p:nvPicPr>
        <p:blipFill>
          <a:blip r:embed="rId1"/>
          <a:stretch/>
        </p:blipFill>
        <p:spPr>
          <a:xfrm>
            <a:off x="457200" y="1066680"/>
            <a:ext cx="8305920" cy="5537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0" y="6216480"/>
            <a:ext cx="2360520" cy="35100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ctoria Falls, Zambia </a:t>
            </a:r>
            <a:endParaRPr b="0" lang="en-US" sz="1800" spc="-1" strike="noStrike">
              <a:solidFill>
                <a:srgbClr val="000000"/>
              </a:solidFill>
              <a:latin typeface="Arial Bold"/>
            </a:endParaRPr>
          </a:p>
        </p:txBody>
      </p:sp>
      <p:pic>
        <p:nvPicPr>
          <p:cNvPr id="59" name="Vic%20fall%202.jpg" descr="Vic%20fall%202"/>
          <p:cNvPicPr/>
          <p:nvPr/>
        </p:nvPicPr>
        <p:blipFill>
          <a:blip r:embed="rId1"/>
          <a:stretch/>
        </p:blipFill>
        <p:spPr>
          <a:xfrm>
            <a:off x="762120" y="228600"/>
            <a:ext cx="7619760" cy="5715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57040" indent="-257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ictoria Falls are one of the greatest natural wonders of the world. The Victoria Falls lie in between Zambia and Zimbabwe in Southern Africa. The falls are part of two national parks, Mosi-oa-Tunya National Park in Zambia and Victoria Falls National Park in Zimbabwe. The Victoria Falls are just over 1 mile wide (1.7 km) and 355 feet (108 m) high. During the wet season over 500 million liters (19 million cubic feet) of water plummets over the edge into the Zambezi River. The best time to view the Victoria Falls is during the rainy season from March to May.</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81080" y="6156360"/>
            <a:ext cx="2627280" cy="35064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arnack Temples, Egypt </a:t>
            </a:r>
            <a:endParaRPr b="0" lang="en-US" sz="1800" spc="-1" strike="noStrike">
              <a:solidFill>
                <a:srgbClr val="000000"/>
              </a:solidFill>
              <a:latin typeface="Arial Bold"/>
            </a:endParaRPr>
          </a:p>
        </p:txBody>
      </p:sp>
      <p:pic>
        <p:nvPicPr>
          <p:cNvPr id="63" name="karnak-temple.jpg" descr="karnak-temple"/>
          <p:cNvPicPr/>
          <p:nvPr/>
        </p:nvPicPr>
        <p:blipFill>
          <a:blip r:embed="rId1"/>
          <a:stretch/>
        </p:blipFill>
        <p:spPr>
          <a:xfrm>
            <a:off x="609480" y="304920"/>
            <a:ext cx="7925040" cy="5513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54160" indent="-254160">
              <a:lnSpc>
                <a:spcPct val="100000"/>
              </a:lnSpc>
              <a:spcBef>
                <a:spcPts val="499"/>
              </a:spcBef>
              <a:buClr>
                <a:srgbClr val="000000"/>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300" spc="-1" strike="noStrike">
                <a:solidFill>
                  <a:srgbClr val="000000"/>
                </a:solidFill>
                <a:latin typeface="Arial"/>
                <a:ea typeface="Arial"/>
              </a:rPr>
              <a:t>The Karnak Temple Complex—comprises a vast mix of decayed temples, chapels, pylons, and other buildings. Building at the complex began in the reign of Sesostris I in the Middle Kingdom and continued into the Ptolemaic period, although most of the extant buildings date from the New Kingdom. The area around Karnak was the ancient Egyptian Ipet-isut ("The Most Selected of Places") and the main place of worship of the eighteenth dynasty Theban Triad with the god Amun as its head. It is part of the monumental city of Thebes. The Karnak complex gives its name to the nearby, and partly surrounded, modern village of el-Karnak, some 2.5 km north of Luxor.</a:t>
            </a:r>
            <a:endParaRPr b="0" lang="en-US" sz="2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14600" y="365040"/>
            <a:ext cx="1882800" cy="35100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ke Chad, Chad</a:t>
            </a:r>
            <a:endParaRPr b="0" lang="en-US" sz="1800" spc="-1" strike="noStrike">
              <a:solidFill>
                <a:srgbClr val="000000"/>
              </a:solidFill>
              <a:latin typeface="Arial Bold"/>
            </a:endParaRPr>
          </a:p>
        </p:txBody>
      </p:sp>
      <p:pic>
        <p:nvPicPr>
          <p:cNvPr id="67" name="Lake_Chad_from_Apollo_7.jpg" descr="Lake_Chad_from_Apollo_7"/>
          <p:cNvPicPr/>
          <p:nvPr/>
        </p:nvPicPr>
        <p:blipFill>
          <a:blip r:embed="rId1"/>
          <a:stretch/>
        </p:blipFill>
        <p:spPr>
          <a:xfrm>
            <a:off x="838080" y="914400"/>
            <a:ext cx="7696440" cy="5759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ke Chad is a historically large, shallow, endorheic lake in Africa, the size of which has varied over the centuries. Lake Chad is economically important, providing water to more than 30 million people living in the four countries surrounding it (Chad, Cameroon, Niger, and Nigeria) on the edge of the Sahara Desert. It is the largest lake in the Chad Basin.</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3880" y="577800"/>
            <a:ext cx="2898720" cy="35100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pe Coast Castle, Ghana </a:t>
            </a:r>
            <a:endParaRPr b="0" lang="en-US" sz="1800" spc="-1" strike="noStrike">
              <a:solidFill>
                <a:srgbClr val="000000"/>
              </a:solidFill>
              <a:latin typeface="Arial Bold"/>
            </a:endParaRPr>
          </a:p>
        </p:txBody>
      </p:sp>
      <p:pic>
        <p:nvPicPr>
          <p:cNvPr id="71" name="Cape_Coast_Castle.jpg" descr="Cape_Coast_Castle"/>
          <p:cNvPicPr/>
          <p:nvPr/>
        </p:nvPicPr>
        <p:blipFill>
          <a:blip r:embed="rId1"/>
          <a:stretch/>
        </p:blipFill>
        <p:spPr>
          <a:xfrm>
            <a:off x="304920" y="1409760"/>
            <a:ext cx="8610480" cy="4457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87280" indent="-287280">
              <a:lnSpc>
                <a:spcPct val="100000"/>
              </a:lnSpc>
              <a:spcBef>
                <a:spcPts val="601"/>
              </a:spcBef>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600" spc="-1" strike="noStrike">
                <a:solidFill>
                  <a:srgbClr val="000000"/>
                </a:solidFill>
                <a:latin typeface="Arial"/>
                <a:ea typeface="Arial"/>
              </a:rPr>
              <a:t>Cape Coast Castle is one of a number of "slave castles", fortification in Ghana built by Swedish traders, originally for trade in timber and gold, later used in the trans-Atlantic slave trade. Other Ghanaian slave castles include the Portuguese foundation of Elmina Castle (later Dutch) and Fort Christiansborg. They were used to hold slaves before they were loaded onto ships and traded in the Americas and the Caribbean. This “gate of no return” was the last stop before crossing the great Atlantic Ocean.</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143000" y="6156360"/>
            <a:ext cx="3470400" cy="35064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alo National Park, Madagascar </a:t>
            </a:r>
            <a:endParaRPr b="0" lang="en-US" sz="1800" spc="-1" strike="noStrike">
              <a:solidFill>
                <a:srgbClr val="000000"/>
              </a:solidFill>
              <a:latin typeface="Arial Bold"/>
            </a:endParaRPr>
          </a:p>
        </p:txBody>
      </p:sp>
      <p:pic>
        <p:nvPicPr>
          <p:cNvPr id="75" name="4796848723_ae2c5d0552.jpg" descr="4796848723_ae2c5d0552"/>
          <p:cNvPicPr/>
          <p:nvPr/>
        </p:nvPicPr>
        <p:blipFill>
          <a:blip r:embed="rId1"/>
          <a:stretch/>
        </p:blipFill>
        <p:spPr>
          <a:xfrm>
            <a:off x="533520" y="533520"/>
            <a:ext cx="8001000" cy="532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marrakeshmorocco.jpg" descr="marrakeshmorocco"/>
          <p:cNvPicPr/>
          <p:nvPr/>
        </p:nvPicPr>
        <p:blipFill>
          <a:blip r:embed="rId1"/>
          <a:stretch/>
        </p:blipFill>
        <p:spPr>
          <a:xfrm>
            <a:off x="228600" y="230040"/>
            <a:ext cx="8610480" cy="5789880"/>
          </a:xfrm>
          <a:prstGeom prst="rect">
            <a:avLst/>
          </a:prstGeom>
          <a:ln w="0">
            <a:noFill/>
          </a:ln>
        </p:spPr>
      </p:pic>
      <p:sp>
        <p:nvSpPr>
          <p:cNvPr id="41" name=""/>
          <p:cNvSpPr/>
          <p:nvPr/>
        </p:nvSpPr>
        <p:spPr>
          <a:xfrm>
            <a:off x="2286000" y="6080040"/>
            <a:ext cx="218592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rakesh, Morocco</a:t>
            </a:r>
            <a:endParaRPr b="0" lang="en-US" sz="1800" spc="-1" strike="noStrike">
              <a:solidFill>
                <a:srgbClr val="000000"/>
              </a:solidFill>
              <a:latin typeface="Arial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alo National Park is a National Park in the Ihorombe Region of Madagascar. The park is known for its wide variety of terrain, including sandstone formations, deep canyons, palm-lined oases, and grassland. The closest town is Ranohira, and the closest cities are Toliara and Ihosy. A local guide is required for visitors entering the park, and guides and porters can be hired in Ranohira. Treks in the park can last from several hours to a week or longer.</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362320" y="6156360"/>
            <a:ext cx="2136600" cy="350640"/>
          </a:xfrm>
          <a:prstGeom prst="pie">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nk Lake, Senegal </a:t>
            </a:r>
            <a:endParaRPr b="0" lang="en-US" sz="1800" spc="-1" strike="noStrike">
              <a:solidFill>
                <a:srgbClr val="000000"/>
              </a:solidFill>
              <a:latin typeface="Arial Bold"/>
            </a:endParaRPr>
          </a:p>
        </p:txBody>
      </p:sp>
      <p:pic>
        <p:nvPicPr>
          <p:cNvPr id="79" name="us1.jpg" descr="us1"/>
          <p:cNvPicPr/>
          <p:nvPr/>
        </p:nvPicPr>
        <p:blipFill>
          <a:blip r:embed="rId1"/>
          <a:stretch/>
        </p:blipFill>
        <p:spPr>
          <a:xfrm>
            <a:off x="1219320" y="411120"/>
            <a:ext cx="6400800" cy="5548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99880" indent="-299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is so named for its pink waters, caused by algae in the water that produce a red pigment that uses sunlight to create more energy, turning the waters pink. The color is particularly visible during the dry season. The lake is also known for its high salt content, which, like that of the Dead Sea, allows people to float easily. The lake also has a small salt collecting industry and is often the finishing point of the Dakar Rally.</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image.png" descr=""/>
          <p:cNvPicPr/>
          <p:nvPr/>
        </p:nvPicPr>
        <p:blipFill>
          <a:blip r:embed="rId1"/>
          <a:stretch/>
        </p:blipFill>
        <p:spPr>
          <a:xfrm>
            <a:off x="533520" y="-380880"/>
            <a:ext cx="8229600" cy="6635520"/>
          </a:xfrm>
          <a:prstGeom prst="rect">
            <a:avLst/>
          </a:prstGeom>
          <a:ln w="0">
            <a:noFill/>
          </a:ln>
        </p:spPr>
      </p:pic>
      <p:sp>
        <p:nvSpPr>
          <p:cNvPr id="83" name=""/>
          <p:cNvSpPr/>
          <p:nvPr/>
        </p:nvSpPr>
        <p:spPr>
          <a:xfrm>
            <a:off x="2514600" y="5638680"/>
            <a:ext cx="548640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yramids and Sphinx, Egypt</a:t>
            </a:r>
            <a:endParaRPr b="0" lang="en-US" sz="1800" spc="-1" strike="noStrike">
              <a:solidFill>
                <a:srgbClr val="000000"/>
              </a:solidFill>
              <a:latin typeface="Arial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54160" indent="-254160">
              <a:lnSpc>
                <a:spcPct val="100000"/>
              </a:lnSpc>
              <a:spcBef>
                <a:spcPts val="499"/>
              </a:spcBef>
              <a:buClr>
                <a:srgbClr val="000000"/>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300" spc="-1" strike="noStrike">
                <a:solidFill>
                  <a:srgbClr val="000000"/>
                </a:solidFill>
                <a:latin typeface="Arial"/>
                <a:ea typeface="Arial"/>
              </a:rPr>
              <a:t>The Pyramids and the Sphinx is one of Egypt's top tourist attractions. The last surviving member of the Seven Wonders of the World, the Great Pyramid of Giza. There are in fact three main pyramids in Giza; the Great Pyramid of Khufu (or Cheops), The Pyramid of Kafhre and the smaller Pyramid of Menkaura. Each Pyramid is a tomb to a different King of Egypt. In front of the pyramids lies the Sphinx, or Abu al-Hol in Arabic, "Father of Terror". Carved out of a single block of stone, this enormous cat-like sculpture has mesmerized millions of visitors. Giza's three pyramids and the Sphinx were thought to have been constructed in the fourth dynasty of Egypt's Old Kingdom.</a:t>
            </a:r>
            <a:endParaRPr b="0" lang="en-US" sz="2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ng" descr=""/>
          <p:cNvPicPr/>
          <p:nvPr/>
        </p:nvPicPr>
        <p:blipFill>
          <a:blip r:embed="rId1"/>
          <a:stretch/>
        </p:blipFill>
        <p:spPr>
          <a:xfrm>
            <a:off x="1219320" y="304920"/>
            <a:ext cx="6858000" cy="5143320"/>
          </a:xfrm>
          <a:prstGeom prst="rect">
            <a:avLst/>
          </a:prstGeom>
          <a:ln w="0">
            <a:noFill/>
          </a:ln>
        </p:spPr>
      </p:pic>
      <p:sp>
        <p:nvSpPr>
          <p:cNvPr id="87" name=""/>
          <p:cNvSpPr/>
          <p:nvPr/>
        </p:nvSpPr>
        <p:spPr>
          <a:xfrm>
            <a:off x="1295280" y="5791320"/>
            <a:ext cx="723924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sai Mara National Reserve Kenya</a:t>
            </a:r>
            <a:endParaRPr b="0" lang="en-US" sz="1800" spc="-1" strike="noStrike">
              <a:solidFill>
                <a:srgbClr val="000000"/>
              </a:solidFill>
              <a:latin typeface="Arial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89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9080" indent="-289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Masai Mara National Reserve is Kenya's premier wildlife park. It was established in 1961 to protect wildlife from hunters. The Masai Mara is the reason many visitors come to Kenya and its beauty and abundant wildlife. The Masai Mara located in southwestern Kenya on the border of Tanzania. The reserve is situated in the Rift Valley with Tanzania's Serengeti Plains running along its southern end. Most of the Masai Mara is made up of hilly grassland which is fed by plentiful rain, especially during the wet months between November and June. The areas bordering the Mara river are forested and are home to over several hundred bird species.</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image.png" descr=""/>
          <p:cNvPicPr/>
          <p:nvPr/>
        </p:nvPicPr>
        <p:blipFill>
          <a:blip r:embed="rId1"/>
          <a:stretch/>
        </p:blipFill>
        <p:spPr>
          <a:xfrm>
            <a:off x="-363600" y="0"/>
            <a:ext cx="9507600" cy="6327720"/>
          </a:xfrm>
          <a:prstGeom prst="rect">
            <a:avLst/>
          </a:prstGeom>
          <a:ln w="0">
            <a:noFill/>
          </a:ln>
        </p:spPr>
      </p:pic>
      <p:sp>
        <p:nvSpPr>
          <p:cNvPr id="91" name=""/>
          <p:cNvSpPr/>
          <p:nvPr/>
        </p:nvSpPr>
        <p:spPr>
          <a:xfrm>
            <a:off x="1828800" y="6119640"/>
            <a:ext cx="5181480" cy="34956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jenne, Mali</a:t>
            </a:r>
            <a:endParaRPr b="0" lang="en-US" sz="1800" spc="-1" strike="noStrike">
              <a:solidFill>
                <a:srgbClr val="000000"/>
              </a:solidFill>
              <a:latin typeface="Arial Bol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87280" indent="-287280">
              <a:lnSpc>
                <a:spcPct val="100000"/>
              </a:lnSpc>
              <a:spcBef>
                <a:spcPts val="601"/>
              </a:spcBef>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600" spc="-1" strike="noStrike">
                <a:solidFill>
                  <a:srgbClr val="000000"/>
                </a:solidFill>
                <a:latin typeface="Arial"/>
                <a:ea typeface="Arial"/>
              </a:rPr>
              <a:t>Djenne, is one of sub-Saharan Africa's oldest cities, founded in 800 AD. There are famous mosque that made from mud and as one of the UNESCO site, namely Djenne Mosque. Located on an island in the Niger River delta, Djenne was a natural hub for traders who shuttled their goods between the Sahara desert and the forests of Guinea. Through the years Djenne also became a center of Islamic learning and its market square is still dominated by the beautiful Grand Mosque. Djenne is located a few hundred miles downstream from Timbuktu.</a:t>
            </a:r>
            <a:endParaRPr b="0" lang="en-US" sz="2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Omo River Region, Ethiopia</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96" name="image.png" descr=""/>
          <p:cNvPicPr/>
          <p:nvPr/>
        </p:nvPicPr>
        <p:blipFill>
          <a:blip r:embed="rId1"/>
          <a:stretch/>
        </p:blipFill>
        <p:spPr>
          <a:xfrm>
            <a:off x="1219320" y="1625760"/>
            <a:ext cx="6781680" cy="4514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ocated at the foot of the Atlas mountains, the imperial city of Marrakech is large, noisy, polluted and smelly. But Marrakech is also enchanting, full of history, the cultural center of Morocco and beautiful. If you enjoy a daily assault on all your senses then you'll have a lot of fun. When the most popular sights include numerous references to "tranquility" and "peace" like the Majorelle gardens or the gardens around the Saadian Tombs you know you're in for an interesting experienc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87280" indent="-287280">
              <a:lnSpc>
                <a:spcPct val="100000"/>
              </a:lnSpc>
              <a:spcBef>
                <a:spcPts val="601"/>
              </a:spcBef>
              <a:buClr>
                <a:srgbClr val="000000"/>
              </a:buClr>
              <a:buFont typeface="Arial"/>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600" spc="-1" strike="noStrike">
                <a:solidFill>
                  <a:srgbClr val="000000"/>
                </a:solidFill>
                <a:latin typeface="Arial"/>
                <a:ea typeface="Arial"/>
              </a:rPr>
              <a:t>More than 50 unique tribes living in the Omo River Region of Southwestern Ethiopia, it's a enchanting tourist attraction for those interested in African culture. The remote location, which is barely accessible by 4 wheel-drive, has meant that traditional customs and beliefs are very much intact for most of these tribes. The Kalashnikovs slung across some warriors' backs can be a little disconcerting but the tribes are friendly and this is often the only western accessory you'll see them wear.</a:t>
            </a:r>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lgn="ctr">
              <a:lnSpc>
                <a:spcPct val="100000"/>
              </a:lnSpc>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3500" spc="-1" strike="noStrike">
                <a:solidFill>
                  <a:srgbClr val="000000"/>
                </a:solidFill>
                <a:latin typeface="Arial"/>
                <a:ea typeface="Arial"/>
              </a:rPr>
              <a:t> </a:t>
            </a:r>
            <a:r>
              <a:rPr b="0" lang="en-US" sz="3500" spc="-1" strike="noStrike">
                <a:solidFill>
                  <a:srgbClr val="000000"/>
                </a:solidFill>
                <a:latin typeface="Arial"/>
                <a:ea typeface="Arial"/>
              </a:rPr>
              <a:t>Virunga Mountains (Tracking Gorillas), Uganda, Rwanda, DRC</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01" name="image.png" descr=""/>
          <p:cNvPicPr/>
          <p:nvPr/>
        </p:nvPicPr>
        <p:blipFill>
          <a:blip r:embed="rId1"/>
          <a:stretch/>
        </p:blipFill>
        <p:spPr>
          <a:xfrm>
            <a:off x="1219320" y="1828800"/>
            <a:ext cx="6858000" cy="4649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25440" indent="-325440">
              <a:lnSpc>
                <a:spcPct val="100000"/>
              </a:lnSpc>
              <a:spcBef>
                <a:spcPts val="700"/>
              </a:spcBef>
              <a:buClr>
                <a:srgbClr val="000000"/>
              </a:buClr>
              <a:buFont typeface="Arial"/>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3000" spc="-1" strike="noStrike">
                <a:solidFill>
                  <a:srgbClr val="000000"/>
                </a:solidFill>
                <a:latin typeface="Arial"/>
                <a:ea typeface="Arial"/>
              </a:rPr>
              <a:t>About 450 mountain gorillas inhabit an extinct volcanic region called the Virunga Range along the borders of Rwanda, Uganda and the Democratic Republic of Congo (DRC) in East Africa. The other 350 or so mountain gorillas inhabit a nearby area of Bwindi in Uganda, a thick rainforest. Seeing gorillas in the wild is something only a few people will ever have the chance to experience.</a:t>
            </a:r>
            <a:endParaRPr b="0" lang="en-US" sz="3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ount Kilimanjaro, Tanzania</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06" name="image.png" descr=""/>
          <p:cNvPicPr/>
          <p:nvPr/>
        </p:nvPicPr>
        <p:blipFill>
          <a:blip r:embed="rId1"/>
          <a:stretch/>
        </p:blipFill>
        <p:spPr>
          <a:xfrm>
            <a:off x="1295280" y="1752480"/>
            <a:ext cx="6662880" cy="4476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frica is known as one of the best tourist attractions for adventure travel and what can be more adventurous than hiking up the world's tallest free standing mountain. Africa's highest peak, Mount Kilimanjaro in Tanzania stands at 19,340 feet (5896m) and will take you 6 days to conquer.</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Zanzibar, Tanzania</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11" name="image.png" descr=""/>
          <p:cNvPicPr/>
          <p:nvPr/>
        </p:nvPicPr>
        <p:blipFill>
          <a:blip r:embed="rId1"/>
          <a:stretch/>
        </p:blipFill>
        <p:spPr>
          <a:xfrm>
            <a:off x="1219320" y="1905120"/>
            <a:ext cx="6781680" cy="4492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100000"/>
              </a:lnSpc>
              <a:spcBef>
                <a:spcPts val="601"/>
              </a:spcBef>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600" spc="-1" strike="noStrike">
                <a:solidFill>
                  <a:srgbClr val="000000"/>
                </a:solidFill>
                <a:latin typeface="Arial"/>
                <a:ea typeface="Arial"/>
              </a:rPr>
              <a:t>Zanzibar is one of Africa's top tourist attractions because of its fascinating history and its incredible beaches. Zanzibar's location in the Indian Ocean (off the coast of Tanzania) has made it a natural trading center throughout its history. Famous for its spices, Zanzibar also became an important slave trading post under its Arab rulers. Stone Town one of the island's biggest attractions. It is a UNESCO World Heritage site, Stone Town boasts beautiful traditional houses, narrow alleyways, a Sultan's palace and many mosques. </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102973573_Ls6ZW-L.jpg" descr="102973573_Ls6ZW-L"/>
          <p:cNvPicPr/>
          <p:nvPr/>
        </p:nvPicPr>
        <p:blipFill>
          <a:blip r:embed="rId1"/>
          <a:srcRect l="0" t="0" r="0" b="7335"/>
          <a:stretch/>
        </p:blipFill>
        <p:spPr>
          <a:xfrm>
            <a:off x="0" y="228600"/>
            <a:ext cx="9144000" cy="5638680"/>
          </a:xfrm>
          <a:prstGeom prst="rect">
            <a:avLst/>
          </a:prstGeom>
          <a:ln w="0">
            <a:noFill/>
          </a:ln>
        </p:spPr>
      </p:pic>
      <p:sp>
        <p:nvSpPr>
          <p:cNvPr id="45" name=""/>
          <p:cNvSpPr/>
          <p:nvPr/>
        </p:nvSpPr>
        <p:spPr>
          <a:xfrm>
            <a:off x="1371600" y="6019920"/>
            <a:ext cx="303840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irobi National Park, Kenya</a:t>
            </a:r>
            <a:endParaRPr b="0" lang="en-US" sz="1800" spc="-1" strike="noStrike">
              <a:solidFill>
                <a:srgbClr val="000000"/>
              </a:solidFill>
              <a:latin typeface="Arial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299880" indent="-299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irobi National Park is a national park in Kenya. Established in 1946, the national park was Kenya's first. It is located approximately 7 kilometres south of the centre of Nairobi, Kenya's capital city, with an electric fence separating the park's wildlife from the metropolis. Nairobi's skyscrapers can be seen from the park. The proximity of urban and natural environments has caused conflicts between the animals and local people and threatens animals' migration route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ill, despite its proximity to civilization and relative small size for an African national park, Nairobi National Park boasts a large and varied wildlife population. Migrating herbivores gather in the park during the dry season, and it is one of Kenya's most successful rhinoceros sanctuarie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fish-river-canyon_namibia.jpg" descr="fish-river-canyon_namibia"/>
          <p:cNvPicPr/>
          <p:nvPr/>
        </p:nvPicPr>
        <p:blipFill>
          <a:blip r:embed="rId1"/>
          <a:stretch/>
        </p:blipFill>
        <p:spPr>
          <a:xfrm>
            <a:off x="0" y="1219320"/>
            <a:ext cx="9144000" cy="5072040"/>
          </a:xfrm>
          <a:prstGeom prst="rect">
            <a:avLst/>
          </a:prstGeom>
          <a:ln w="0">
            <a:noFill/>
          </a:ln>
        </p:spPr>
      </p:pic>
      <p:sp>
        <p:nvSpPr>
          <p:cNvPr id="51" name=""/>
          <p:cNvSpPr/>
          <p:nvPr/>
        </p:nvSpPr>
        <p:spPr>
          <a:xfrm>
            <a:off x="1447920" y="380880"/>
            <a:ext cx="2949480" cy="34920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sh River Canyon, Namibia</a:t>
            </a:r>
            <a:endParaRPr b="0" lang="en-US" sz="1800" spc="-1" strike="noStrike">
              <a:solidFill>
                <a:srgbClr val="000000"/>
              </a:solidFill>
              <a:latin typeface="Arial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Fish River Canyon is located in the south of Namibia. It is the second largest canyon in the world and the largest in Africa, as well as the second most visited tourist attraction in Namibia. It features a gigantic ravine, in total about 100 miles (160 km) long, up to 27 km wide and in places almost 550 metres deep.</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822960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38040" indent="-338040">
              <a:lnSpc>
                <a:spcPct val="100000"/>
              </a:lnSpc>
              <a:spcBef>
                <a:spcPts val="700"/>
              </a:spcBef>
              <a:buClr>
                <a:srgbClr val="000000"/>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100" spc="-1" strike="noStrike">
                <a:solidFill>
                  <a:srgbClr val="000000"/>
                </a:solidFill>
                <a:latin typeface="Arial"/>
                <a:ea typeface="Arial"/>
              </a:rPr>
              <a:t>The Fish River is the longest interior river in Namibia. It cuts deep into the plateau which is today dry, stony and sparsely covered with hardy drought-resistant plants. The river flows intermittently, usually flooding in late summer; the rest of the year it becomes a chain of long narrow pools. At the lower end of the Fish River Canyon, the hot springs resort of Ai-Ais is situated.</a:t>
            </a:r>
            <a:endParaRPr b="0" lang="en-US" sz="3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